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1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3FA-A855-4481-BF3B-18207102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182-6C7D-4406-A6B1-47DB6150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2A3-6648-4735-AF41-B146E27A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A9C-C840-4D3E-9881-75E162DD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914-3E51-4882-B5C3-94E774CB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359-B29E-490B-8F9C-4B0373CA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BCE5-AD3E-4335-8D32-BA90D343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D27-66BA-4728-90A7-3A57F0CB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EC8-B103-4531-919A-F229B224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1B25-82F5-4030-9CE3-D815C300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DDF7-78D0-4E7C-9A07-D3F63180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208-69D8-40D3-B0E5-9DB0048E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AE40-F313-407F-B00E-C6C8DFBAC734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mapspublic.ihmc.us/rid=1265912330218_1949121621_27506/Tema%201%20Las%20Ondas.cmap" TargetMode="External"/><Relationship Id="rId3" Type="http://schemas.openxmlformats.org/officeDocument/2006/relationships/hyperlink" Target="http://www.speakingimage.org/images/estructura-la-membrana-plasmatica" TargetMode="External"/><Relationship Id="rId4" Type="http://schemas.openxmlformats.org/officeDocument/2006/relationships/hyperlink" Target="http://www.speakingimage.org/images/el-adn" TargetMode="External"/><Relationship Id="rId5" Type="http://schemas.openxmlformats.org/officeDocument/2006/relationships/hyperlink" Target="http://www.speakingimage.org/images/teorema-thales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koool.es/content/ks4/chemistry/01_the_structure_of_the_atom/index.html" TargetMode="External"/><Relationship Id="rId3" Type="http://schemas.openxmlformats.org/officeDocument/2006/relationships/hyperlink" Target="http://www.skoool.es/content/los/physics/mass_weight_gravity/index.html" TargetMode="External"/><Relationship Id="rId4" Type="http://schemas.openxmlformats.org/officeDocument/2006/relationships/hyperlink" Target="http://www.skoool.es/content/ks4/maths/equation_line/index.html" TargetMode="External"/><Relationship Id="rId5" Type="http://schemas.openxmlformats.org/officeDocument/2006/relationships/hyperlink" Target="http://videos.educ.ar/play/Disciplinas/_Quimica/Soluciones" TargetMode="External"/><Relationship Id="rId6" Type="http://schemas.openxmlformats.org/officeDocument/2006/relationships/hyperlink" Target="http://videos.educ.ar/play/Disciplinas/_Fisica/MRU" TargetMode="External"/><Relationship Id="rId7" Type="http://schemas.openxmlformats.org/officeDocument/2006/relationships/hyperlink" Target="http://videos.educ.ar/play/Disciplinas/_Biologia/Impulso_nervioso" TargetMode="External"/><Relationship Id="rId8" Type="http://schemas.openxmlformats.org/officeDocument/2006/relationships/hyperlink" Target="http://infografias.educ.ar/mod/resource/view.php?id=244" TargetMode="External"/><Relationship Id="rId9" Type="http://schemas.openxmlformats.org/officeDocument/2006/relationships/hyperlink" Target="http://infografias.educ.ar/mod/resource/view.php?id=254" TargetMode="External"/><Relationship Id="rId10" Type="http://schemas.openxmlformats.org/officeDocument/2006/relationships/hyperlink" Target="http://www.educaplus.org/play-189-Inecuaciones.html" TargetMode="External"/><Relationship Id="rId11" Type="http://schemas.openxmlformats.org/officeDocument/2006/relationships/hyperlink" Target="http://www.educaplus.org/play-137-Suma-de-vectores.html" TargetMode="External"/><Relationship Id="rId12" Type="http://schemas.openxmlformats.org/officeDocument/2006/relationships/hyperlink" Target="http://www.educaplus.org/play-305-Alcance-y-altura-m&#225;xima.html" TargetMode="External"/><Relationship Id="rId13" Type="http://schemas.openxmlformats.org/officeDocument/2006/relationships/hyperlink" Target="http://tablaperiodica.educaplus.org/" TargetMode="External"/><Relationship Id="rId14" Type="http://schemas.openxmlformats.org/officeDocument/2006/relationships/hyperlink" Target="http://www.educaplus.org/play-16-C&#233;lula-animal.html" TargetMode="Externa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althline.com/human-body-maps/" TargetMode="External"/><Relationship Id="rId3" Type="http://schemas.openxmlformats.org/officeDocument/2006/relationships/hyperlink" Target="http://www.healthline.com/human-body-maps/" TargetMode="External"/><Relationship Id="rId4" Type="http://schemas.openxmlformats.org/officeDocument/2006/relationships/hyperlink" Target="http://medtropolis.com/virtual-body/" TargetMode="External"/><Relationship Id="rId5" Type="http://schemas.openxmlformats.org/officeDocument/2006/relationships/hyperlink" Target="http://medtropolis.com/virtual-body/" TargetMode="External"/><Relationship Id="rId6" Type="http://schemas.openxmlformats.org/officeDocument/2006/relationships/hyperlink" Target="http://www.youtube.com/user/nucleusanimation" TargetMode="External"/><Relationship Id="rId7" Type="http://schemas.openxmlformats.org/officeDocument/2006/relationships/hyperlink" Target="http://www.youtube.com/user/nucleusanimation" TargetMode="Externa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althline.com/human-body-maps/" TargetMode="External"/><Relationship Id="rId3" Type="http://schemas.openxmlformats.org/officeDocument/2006/relationships/hyperlink" Target="http://www.healthline.com/human-body-maps/" TargetMode="External"/><Relationship Id="rId4" Type="http://schemas.openxmlformats.org/officeDocument/2006/relationships/hyperlink" Target="http://medtropolis.com/virtual-body/" TargetMode="External"/><Relationship Id="rId5" Type="http://schemas.openxmlformats.org/officeDocument/2006/relationships/hyperlink" Target="http://medtropolis.com/virtual-body/" TargetMode="External"/><Relationship Id="rId6" Type="http://schemas.openxmlformats.org/officeDocument/2006/relationships/hyperlink" Target="http://www.youtube.com/user/nucleusanimation" TargetMode="External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mapspublic.ihmc.us/rid=1265912330218_1949121621_27506/Tema%201%20Las%20Ondas.cmap" TargetMode="External"/><Relationship Id="rId3" Type="http://schemas.openxmlformats.org/officeDocument/2006/relationships/hyperlink" Target="http://cmapspublic.ihmc.us/rid=1265912330218_1949121621_27506/Tema%201%20Las%20Ondas.cmap" TargetMode="External"/><Relationship Id="rId4" Type="http://schemas.openxmlformats.org/officeDocument/2006/relationships/hyperlink" Target="http://cmapspublic.ihmc.us/rid=1226968921187_265432385_28687/HISTORIA%20DE%20PI.cmap" TargetMode="External"/><Relationship Id="rId5" Type="http://schemas.openxmlformats.org/officeDocument/2006/relationships/hyperlink" Target="http://cmapspublic.ihmc.us/rid=1226968921187_265432385_28687/HISTORIA%20DE%20PI.cmap" TargetMode="External"/><Relationship Id="rId6" Type="http://schemas.openxmlformats.org/officeDocument/2006/relationships/hyperlink" Target="http://cmapspublic3.ihmc.us/rid=1250998902781_264184319_41539/matem&#225;tica.cmap" TargetMode="External"/><Relationship Id="rId7" Type="http://schemas.openxmlformats.org/officeDocument/2006/relationships/hyperlink" Target="http://cmapspublic3.ihmc.us/rid=1250998902781_264184319_41539/matem&#225;tica.cmap" TargetMode="External"/><Relationship Id="rId8" Type="http://schemas.openxmlformats.org/officeDocument/2006/relationships/hyperlink" Target="http://cmapspublic2.ihmc.us/rid=1JW0F6Q5S-BNX069-11ZZ/Tipos%20de%20reacciones%20qu&#237;micas.cmap" TargetMode="External"/><Relationship Id="rId9" Type="http://schemas.openxmlformats.org/officeDocument/2006/relationships/hyperlink" Target="http://cmapspublic2.ihmc.us/rid=1JW0F6Q5S-BNX069-11ZZ/Tipos%20de%20reacciones%20qu&#237;micas.cmap" TargetMode="External"/><Relationship Id="rId10" Type="http://schemas.openxmlformats.org/officeDocument/2006/relationships/hyperlink" Target="http://cmaps.cmappers.net/rid=1H3P73Z1R-1LTM14T-4NT/El%20cuerpo%20humano.cmap" TargetMode="External"/><Relationship Id="rId11" Type="http://schemas.openxmlformats.org/officeDocument/2006/relationships/hyperlink" Target="http://cmaps.cmappers.net/rid=1H3P73Z1R-1LTM14T-4NT/El%20cuerpo%20humano.cmap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4 CuadroTexto"/>
          <p:cNvSpPr/>
          <p:nvPr/>
        </p:nvSpPr>
        <p:spPr>
          <a:xfrm>
            <a:off x="539640" y="954000"/>
            <a:ext cx="828216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d0d0d"/>
                </a:solidFill>
                <a:latin typeface="Calibri"/>
                <a:ea typeface="Calibri"/>
              </a:rPr>
              <a:t>Taller Avanzado de Educación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d0d0d"/>
                </a:solidFill>
                <a:latin typeface="Calibri"/>
                <a:ea typeface="Calibri"/>
              </a:rPr>
              <a:t>Ciencias Exactas y Natura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Users\mpaladini\Desktop\Banco de Recursos\Ilustraciones_María\10 Lineamientos a color\02.png"/>
          <p:cNvPicPr/>
          <p:nvPr/>
        </p:nvPicPr>
        <p:blipFill>
          <a:blip r:embed="rId2"/>
          <a:stretch/>
        </p:blipFill>
        <p:spPr>
          <a:xfrm>
            <a:off x="2484360" y="2000160"/>
            <a:ext cx="676764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hape 141"/>
          <p:cNvSpPr/>
          <p:nvPr/>
        </p:nvSpPr>
        <p:spPr>
          <a:xfrm>
            <a:off x="179280" y="836640"/>
            <a:ext cx="965700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31859c"/>
                </a:solidFill>
                <a:latin typeface="Calibri"/>
              </a:rPr>
              <a:t>Speaking Im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aplicación para análisis de imá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2"/>
          <p:cNvSpPr/>
          <p:nvPr/>
        </p:nvSpPr>
        <p:spPr>
          <a:xfrm>
            <a:off x="3851280" y="2192400"/>
            <a:ext cx="504180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¿Para qué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Identificar partes, a</a:t>
            </a: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alizar elementos, delimitar zonas del cuerpo humano, de un átomo o molécula, de un diagrama, de un gráf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Analizar una imagen en forma colaborativ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Armar una</a:t>
            </a: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 aplicación interactiva para la visualización de datos</a:t>
            </a: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 con una ima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Agregar información relaciona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hape 143"/>
          <p:cNvSpPr/>
          <p:nvPr/>
        </p:nvSpPr>
        <p:spPr>
          <a:xfrm>
            <a:off x="195120" y="1779480"/>
            <a:ext cx="3800520" cy="22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799"/>
              </a:spcBef>
              <a:buClr>
                <a:srgbClr val="000099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Estructura de la membrana plasmá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799"/>
              </a:spcBef>
              <a:buClr>
                <a:srgbClr val="000099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"/>
              </a:rPr>
              <a:t>El A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799"/>
              </a:spcBef>
              <a:buClr>
                <a:srgbClr val="000099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5"/>
              </a:rPr>
              <a:t>Teorema de Th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unos 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hape 141"/>
          <p:cNvSpPr/>
          <p:nvPr/>
        </p:nvSpPr>
        <p:spPr>
          <a:xfrm>
            <a:off x="179280" y="836640"/>
            <a:ext cx="896472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31859c"/>
                </a:solidFill>
                <a:latin typeface="Calibri"/>
              </a:rPr>
              <a:t>Recursos multimedi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imulaciones, animaciones, videos, imágenes, interac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hape 142"/>
          <p:cNvSpPr/>
          <p:nvPr/>
        </p:nvSpPr>
        <p:spPr>
          <a:xfrm>
            <a:off x="4284720" y="2133720"/>
            <a:ext cx="4608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¿Para qué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Buscar materiales multimediales como complemento de una cl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Elaborar un producto multimedial utilizando diversos recur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hape 143"/>
          <p:cNvSpPr/>
          <p:nvPr/>
        </p:nvSpPr>
        <p:spPr>
          <a:xfrm>
            <a:off x="195120" y="2189160"/>
            <a:ext cx="380052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14480" indent="-114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10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Recursos Skool: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Estructura del átomo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Masa, peso y gravedad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"/>
              </a:rPr>
              <a:t>Ecuación de la 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10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Educ.ar: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5"/>
              </a:rPr>
              <a:t>Soluciones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/>
              </a:rPr>
              <a:t>MRU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7"/>
              </a:rPr>
              <a:t>Impulso nervioso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8"/>
              </a:rPr>
              <a:t>El átomo de carbono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9"/>
              </a:rPr>
              <a:t>Me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10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Educaplus: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Inecuaciones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1"/>
              </a:rPr>
              <a:t>Suma de vectores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2"/>
              </a:rPr>
              <a:t>Tiro oblicuo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3"/>
              </a:rPr>
              <a:t>Tabla periódica interactiva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4"/>
              </a:rPr>
              <a:t>Célula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hape 141"/>
          <p:cNvSpPr/>
          <p:nvPr/>
        </p:nvSpPr>
        <p:spPr>
          <a:xfrm>
            <a:off x="179280" y="189000"/>
            <a:ext cx="89647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31859c"/>
                </a:solidFill>
                <a:latin typeface="Calibri"/>
              </a:rPr>
              <a:t>GeoGeb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Matemática / Fí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hape 166"/>
          <p:cNvSpPr/>
          <p:nvPr/>
        </p:nvSpPr>
        <p:spPr>
          <a:xfrm>
            <a:off x="179280" y="1701720"/>
            <a:ext cx="842508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¿Para qué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rear modelos matemáticos y geométr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Interpretar gráf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Identificar vari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Estudiar movimientos y vectores.Analizar ejes y coorden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Graficar func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hape 167"/>
          <p:cNvSpPr/>
          <p:nvPr/>
        </p:nvSpPr>
        <p:spPr>
          <a:xfrm>
            <a:off x="5940360" y="549360"/>
            <a:ext cx="2851200" cy="270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hape 166"/>
          <p:cNvSpPr/>
          <p:nvPr/>
        </p:nvSpPr>
        <p:spPr>
          <a:xfrm>
            <a:off x="5292720" y="4005360"/>
            <a:ext cx="38512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Otros program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Graphmatica (matemá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Winplot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(mate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Modellus (fìs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hape 141"/>
          <p:cNvSpPr/>
          <p:nvPr/>
        </p:nvSpPr>
        <p:spPr>
          <a:xfrm>
            <a:off x="108000" y="44280"/>
            <a:ext cx="89647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31859c"/>
                </a:solidFill>
                <a:latin typeface="Calibri"/>
              </a:rPr>
              <a:t>Avogad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Quí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hape 166"/>
          <p:cNvSpPr/>
          <p:nvPr/>
        </p:nvSpPr>
        <p:spPr>
          <a:xfrm>
            <a:off x="108000" y="1557360"/>
            <a:ext cx="842472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¿Para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rmar modelos quím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ombinar molécu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Observar modelos en 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hape 174"/>
          <p:cNvSpPr/>
          <p:nvPr/>
        </p:nvSpPr>
        <p:spPr>
          <a:xfrm>
            <a:off x="4716360" y="765000"/>
            <a:ext cx="3159360" cy="3171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hape 166"/>
          <p:cNvSpPr/>
          <p:nvPr/>
        </p:nvSpPr>
        <p:spPr>
          <a:xfrm>
            <a:off x="5292720" y="4341960"/>
            <a:ext cx="385128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Otros program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hem Ske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VLab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hape 141"/>
          <p:cNvSpPr/>
          <p:nvPr/>
        </p:nvSpPr>
        <p:spPr>
          <a:xfrm>
            <a:off x="179280" y="836640"/>
            <a:ext cx="89647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31859c"/>
                </a:solidFill>
                <a:latin typeface="Calibri"/>
              </a:rPr>
              <a:t>Cuerpo Humano 3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Bi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hape 166"/>
          <p:cNvSpPr/>
          <p:nvPr/>
        </p:nvSpPr>
        <p:spPr>
          <a:xfrm>
            <a:off x="4356000" y="2349360"/>
            <a:ext cx="46087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¿Para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Reconocer las diversas partes del cuerpo humano y de cada sist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nalizar su funciona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apturar imágenes para elaborar una producción multimed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hape 183"/>
          <p:cNvSpPr/>
          <p:nvPr/>
        </p:nvSpPr>
        <p:spPr>
          <a:xfrm>
            <a:off x="179280" y="2276640"/>
            <a:ext cx="340848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14480" indent="-1144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Body M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5"/>
              </a:rPr>
              <a:t>Virtual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7"/>
              </a:rPr>
              <a:t>Animaciones Nucle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hape 141"/>
          <p:cNvSpPr/>
          <p:nvPr/>
        </p:nvSpPr>
        <p:spPr>
          <a:xfrm>
            <a:off x="179280" y="836640"/>
            <a:ext cx="89647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31859c"/>
                </a:solidFill>
                <a:latin typeface="Calibri"/>
              </a:rPr>
              <a:t>Cuerpo Humano 3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Bi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hape 166"/>
          <p:cNvSpPr/>
          <p:nvPr/>
        </p:nvSpPr>
        <p:spPr>
          <a:xfrm>
            <a:off x="4356000" y="2205000"/>
            <a:ext cx="46087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¿Para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Reconocer las diversas partes del cuerpo humano y de cada sist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nalizar su funciona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apturar imágenes para elaborar una producción multimed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hape 183"/>
          <p:cNvSpPr/>
          <p:nvPr/>
        </p:nvSpPr>
        <p:spPr>
          <a:xfrm>
            <a:off x="179280" y="2133720"/>
            <a:ext cx="340848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14480" indent="-1144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Body M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5"/>
              </a:rPr>
              <a:t>Virtual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</a:rPr>
              <a:t>Animaciones Nucle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hape 185"/>
          <p:cNvSpPr/>
          <p:nvPr/>
        </p:nvSpPr>
        <p:spPr>
          <a:xfrm>
            <a:off x="7236000" y="981000"/>
            <a:ext cx="1657080" cy="15415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hape 203"/>
          <p:cNvSpPr/>
          <p:nvPr/>
        </p:nvSpPr>
        <p:spPr>
          <a:xfrm>
            <a:off x="826920" y="647640"/>
            <a:ext cx="7466040" cy="4797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8 Rectángulo"/>
          <p:cNvSpPr/>
          <p:nvPr/>
        </p:nvSpPr>
        <p:spPr>
          <a:xfrm>
            <a:off x="2556000" y="2736720"/>
            <a:ext cx="4176720" cy="719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hape 204"/>
          <p:cNvSpPr/>
          <p:nvPr/>
        </p:nvSpPr>
        <p:spPr>
          <a:xfrm>
            <a:off x="2556000" y="2808360"/>
            <a:ext cx="4392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70c0"/>
                </a:solidFill>
                <a:uFillTx/>
                <a:latin typeface="Calibri"/>
              </a:rPr>
              <a:t>www.integrar.bue.edu.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hape 210"/>
          <p:cNvSpPr/>
          <p:nvPr/>
        </p:nvSpPr>
        <p:spPr>
          <a:xfrm>
            <a:off x="684360" y="733320"/>
            <a:ext cx="781812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333333"/>
                </a:solidFill>
                <a:latin typeface="Calibri"/>
              </a:rPr>
              <a:t>Ideas, proyectos, reflexiones, comentarios, conclu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mpaladini\Desktop\Banco de Recursos\Ilustraciones_María\Sonrie2.png"/>
          <p:cNvPicPr/>
          <p:nvPr/>
        </p:nvPicPr>
        <p:blipFill>
          <a:blip r:embed="rId2"/>
          <a:stretch/>
        </p:blipFill>
        <p:spPr>
          <a:xfrm>
            <a:off x="1116000" y="1846440"/>
            <a:ext cx="706104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217"/>
          <p:cNvSpPr/>
          <p:nvPr/>
        </p:nvSpPr>
        <p:spPr>
          <a:xfrm>
            <a:off x="2411280" y="1052640"/>
            <a:ext cx="4421160" cy="4611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218"/>
          <p:cNvSpPr/>
          <p:nvPr/>
        </p:nvSpPr>
        <p:spPr>
          <a:xfrm>
            <a:off x="2771640" y="549360"/>
            <a:ext cx="3961080" cy="12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Acceder a </a:t>
            </a:r>
            <a:r>
              <a:rPr b="1" lang="es-AR" sz="3200" spc="-1" strike="noStrike" u="sng">
                <a:solidFill>
                  <a:srgbClr val="3c78d8"/>
                </a:solidFill>
                <a:uFillTx/>
                <a:latin typeface="Calibri"/>
              </a:rPr>
              <a:t>Enc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Calibri"/>
              </a:rPr>
              <a:t>Muchas gracias!!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Unicode MS"/>
              </a:rPr>
              <a:t>Nuestros mail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 Unicode MS"/>
              </a:rPr>
              <a:t>brendatriulzi@gmail.co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 Unicode MS"/>
              </a:rPr>
              <a:t>myriam.riobo@gmail.co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 Unicode MS"/>
              </a:rPr>
              <a:t>marceaguerrero@gmail.co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4 CuadroTexto"/>
          <p:cNvSpPr/>
          <p:nvPr/>
        </p:nvSpPr>
        <p:spPr>
          <a:xfrm>
            <a:off x="188640" y="69228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hape 61"/>
          <p:cNvSpPr/>
          <p:nvPr/>
        </p:nvSpPr>
        <p:spPr>
          <a:xfrm>
            <a:off x="108000" y="1484280"/>
            <a:ext cx="855504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marL="457200" indent="-3808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Cultura digital y ciberespacio: prácticas y dinámicas de participación en entornos digi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Recursos de apoyo para la visualización de la información en diversos formatos multimediales y la interacción con los objetos de cono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Visualizadores del cuerpo humano en 3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Marcadores de imág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Aplicaciones y recursos para Matemática. Calculadoras científ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Aplicaciones y recursos para Quí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Aplicaciones y recursos para Fí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5 CuadroTexto"/>
          <p:cNvSpPr/>
          <p:nvPr/>
        </p:nvSpPr>
        <p:spPr>
          <a:xfrm>
            <a:off x="179280" y="1554120"/>
            <a:ext cx="626436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Integrar la cultura digital desde la innovación pedag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Transitar nuevos roles en la comunidad educ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Abrir la puerta al conocimiento continuo y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Hablar el lenguaje de los nuevos me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Explorar nuevos modos de entender y de construir la re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Aprender y jugar en entornos 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Construir una mirada crítica, responsable y solid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Garantizar el acceso a la igualdad de oportunidades y posi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Transitar el presente con la mirada puesta en el fut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Aprender ju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6 CuadroTexto"/>
          <p:cNvSpPr/>
          <p:nvPr/>
        </p:nvSpPr>
        <p:spPr>
          <a:xfrm>
            <a:off x="199440" y="765000"/>
            <a:ext cx="580608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Calibri"/>
              </a:rPr>
              <a:t>¿Cuáles son nuestros lineamien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:\Users\mpaladini\Desktop\Banco de Recursos\Ilustraciones_María\10 Lineamientos a color\01.png"/>
          <p:cNvPicPr/>
          <p:nvPr/>
        </p:nvPicPr>
        <p:blipFill>
          <a:blip r:embed="rId2"/>
          <a:stretch/>
        </p:blipFill>
        <p:spPr>
          <a:xfrm>
            <a:off x="5029200" y="333360"/>
            <a:ext cx="41148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hape 75"/>
          <p:cNvSpPr/>
          <p:nvPr/>
        </p:nvSpPr>
        <p:spPr>
          <a:xfrm>
            <a:off x="826920" y="549360"/>
            <a:ext cx="7764480" cy="4987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hape 76"/>
          <p:cNvSpPr/>
          <p:nvPr/>
        </p:nvSpPr>
        <p:spPr>
          <a:xfrm>
            <a:off x="2556000" y="1773360"/>
            <a:ext cx="3949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17375e"/>
                </a:solidFill>
                <a:latin typeface="Calibri"/>
              </a:rPr>
              <a:t>Innovación pedag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hape 77"/>
          <p:cNvSpPr/>
          <p:nvPr/>
        </p:nvSpPr>
        <p:spPr>
          <a:xfrm>
            <a:off x="4356000" y="3573360"/>
            <a:ext cx="689040" cy="689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8 Grupo"/>
          <p:cNvGrpSpPr/>
          <p:nvPr/>
        </p:nvGrpSpPr>
        <p:grpSpPr>
          <a:xfrm>
            <a:off x="1763640" y="1359000"/>
            <a:ext cx="5977080" cy="4113000"/>
            <a:chOff x="1763640" y="1359000"/>
            <a:chExt cx="5977080" cy="4113000"/>
          </a:xfrm>
        </p:grpSpPr>
        <p:pic>
          <p:nvPicPr>
            <p:cNvPr id="52" name="Picture 4" descr="C:\Users\mpaladini\Desktop\Untitled-1.jpg"/>
            <p:cNvPicPr/>
            <p:nvPr/>
          </p:nvPicPr>
          <p:blipFill>
            <a:blip r:embed="rId2"/>
            <a:srcRect l="16002" t="140" r="0" b="0"/>
            <a:stretch/>
          </p:blipFill>
          <p:spPr>
            <a:xfrm>
              <a:off x="1763640" y="1359000"/>
              <a:ext cx="597708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7 Rectángulo"/>
            <p:cNvSpPr/>
            <p:nvPr/>
          </p:nvSpPr>
          <p:spPr>
            <a:xfrm>
              <a:off x="1869840" y="2628720"/>
              <a:ext cx="12808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3 CuadroTexto"/>
            <p:cNvSpPr/>
            <p:nvPr/>
          </p:nvSpPr>
          <p:spPr>
            <a:xfrm>
              <a:off x="1816920" y="2604600"/>
              <a:ext cx="122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ash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4" descr="C:\Users\mpaladini\Downloads\cultura-digital.jpg"/>
          <p:cNvPicPr/>
          <p:nvPr/>
        </p:nvPicPr>
        <p:blipFill>
          <a:blip r:embed="rId3"/>
          <a:srcRect l="0" t="24035" r="4253" b="10790"/>
          <a:stretch/>
        </p:blipFill>
        <p:spPr>
          <a:xfrm>
            <a:off x="3059280" y="665280"/>
            <a:ext cx="3085920" cy="650880"/>
          </a:xfrm>
          <a:prstGeom prst="rect">
            <a:avLst/>
          </a:prstGeom>
          <a:ln w="0">
            <a:noFill/>
          </a:ln>
        </p:spPr>
      </p:pic>
      <p:sp>
        <p:nvSpPr>
          <p:cNvPr id="56" name="18 Rectángulo redondeado"/>
          <p:cNvSpPr/>
          <p:nvPr/>
        </p:nvSpPr>
        <p:spPr>
          <a:xfrm>
            <a:off x="3564000" y="1700280"/>
            <a:ext cx="2663640" cy="504720"/>
          </a:xfrm>
          <a:prstGeom prst="roundRect">
            <a:avLst>
              <a:gd name="adj" fmla="val 16667"/>
            </a:avLst>
          </a:prstGeom>
          <a:solidFill>
            <a:srgbClr val="ffc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9 Rectángulo redondeado"/>
          <p:cNvSpPr/>
          <p:nvPr/>
        </p:nvSpPr>
        <p:spPr>
          <a:xfrm>
            <a:off x="2771640" y="2276640"/>
            <a:ext cx="1576440" cy="298440"/>
          </a:xfrm>
          <a:prstGeom prst="roundRect">
            <a:avLst>
              <a:gd name="adj" fmla="val 16667"/>
            </a:avLst>
          </a:prstGeom>
          <a:solidFill>
            <a:srgbClr val="ffc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0 Rectángulo redondeado"/>
          <p:cNvSpPr/>
          <p:nvPr/>
        </p:nvSpPr>
        <p:spPr>
          <a:xfrm>
            <a:off x="5148360" y="3429000"/>
            <a:ext cx="2663640" cy="298440"/>
          </a:xfrm>
          <a:prstGeom prst="roundRect">
            <a:avLst>
              <a:gd name="adj" fmla="val 16667"/>
            </a:avLst>
          </a:prstGeom>
          <a:solidFill>
            <a:srgbClr val="ffc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1 Rectángulo redondeado"/>
          <p:cNvSpPr/>
          <p:nvPr/>
        </p:nvSpPr>
        <p:spPr>
          <a:xfrm>
            <a:off x="1692360" y="4941720"/>
            <a:ext cx="2808360" cy="586080"/>
          </a:xfrm>
          <a:prstGeom prst="roundRect">
            <a:avLst>
              <a:gd name="adj" fmla="val 16667"/>
            </a:avLst>
          </a:prstGeom>
          <a:solidFill>
            <a:srgbClr val="ffc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hape 61"/>
          <p:cNvSpPr/>
          <p:nvPr/>
        </p:nvSpPr>
        <p:spPr>
          <a:xfrm>
            <a:off x="1547640" y="1125360"/>
            <a:ext cx="597708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Calibri"/>
              </a:rPr>
              <a:t>¿Qué dinámicas y/o prácticas han incorporado con la llegada de las TIC a la escuel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Calibri"/>
              </a:rPr>
              <a:t>¿En qué aspectos los alumnos ejercen un rol activo y participativo en el aul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6 Conector recto"/>
          <p:cNvSpPr/>
          <p:nvPr/>
        </p:nvSpPr>
        <p:spPr>
          <a:xfrm>
            <a:off x="2556000" y="3068640"/>
            <a:ext cx="4176720" cy="0"/>
          </a:xfrm>
          <a:prstGeom prst="line">
            <a:avLst/>
          </a:prstGeom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2 Rectángulo redondeado"/>
          <p:cNvSpPr/>
          <p:nvPr/>
        </p:nvSpPr>
        <p:spPr>
          <a:xfrm>
            <a:off x="2843280" y="4292640"/>
            <a:ext cx="3313080" cy="1008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1 Rectángulo redondeado"/>
          <p:cNvSpPr/>
          <p:nvPr/>
        </p:nvSpPr>
        <p:spPr>
          <a:xfrm>
            <a:off x="4500720" y="3068640"/>
            <a:ext cx="3527280" cy="1008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 redondeado"/>
          <p:cNvSpPr/>
          <p:nvPr/>
        </p:nvSpPr>
        <p:spPr>
          <a:xfrm>
            <a:off x="1835280" y="3068640"/>
            <a:ext cx="2089080" cy="1008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CuadroTexto"/>
          <p:cNvSpPr/>
          <p:nvPr/>
        </p:nvSpPr>
        <p:spPr>
          <a:xfrm>
            <a:off x="179280" y="836640"/>
            <a:ext cx="835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Calibri"/>
              </a:rPr>
              <a:t>Oportunidades para la enseñanza y el aprendizaje en este nuevo contex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CuadroTexto"/>
          <p:cNvSpPr/>
          <p:nvPr/>
        </p:nvSpPr>
        <p:spPr>
          <a:xfrm>
            <a:off x="179280" y="2060640"/>
            <a:ext cx="896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dinámicas de trabajo en el aula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para la innovación pedag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hape 102"/>
          <p:cNvSpPr/>
          <p:nvPr/>
        </p:nvSpPr>
        <p:spPr>
          <a:xfrm>
            <a:off x="1835280" y="3284640"/>
            <a:ext cx="2089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El </a:t>
            </a:r>
            <a:r>
              <a:rPr b="1" lang="es-AR" sz="2000" spc="-1" strike="noStrike">
                <a:solidFill>
                  <a:srgbClr val="333333"/>
                </a:solidFill>
                <a:latin typeface="Calibri"/>
              </a:rPr>
              <a:t>docente </a:t>
            </a: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como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medi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hape 104"/>
          <p:cNvSpPr/>
          <p:nvPr/>
        </p:nvSpPr>
        <p:spPr>
          <a:xfrm>
            <a:off x="2916360" y="4292640"/>
            <a:ext cx="32400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La </a:t>
            </a:r>
            <a:r>
              <a:rPr b="1" lang="es-AR" sz="2000" spc="-1" strike="noStrike">
                <a:solidFill>
                  <a:srgbClr val="333333"/>
                </a:solidFill>
                <a:latin typeface="Calibri"/>
              </a:rPr>
              <a:t>com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integrada al proces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enseñanza y aprendiz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hape 106"/>
          <p:cNvSpPr/>
          <p:nvPr/>
        </p:nvSpPr>
        <p:spPr>
          <a:xfrm>
            <a:off x="4500720" y="3213000"/>
            <a:ext cx="35272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El </a:t>
            </a:r>
            <a:r>
              <a:rPr b="1" lang="es-AR" sz="2000" spc="-1" strike="noStrike">
                <a:solidFill>
                  <a:srgbClr val="333333"/>
                </a:solidFill>
                <a:latin typeface="Calibri"/>
              </a:rPr>
              <a:t>alumno </a:t>
            </a: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como protagon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y constructor de cono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hape 115"/>
          <p:cNvSpPr/>
          <p:nvPr/>
        </p:nvSpPr>
        <p:spPr>
          <a:xfrm>
            <a:off x="179280" y="836640"/>
            <a:ext cx="87138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000000"/>
                </a:solidFill>
                <a:latin typeface="Calibri"/>
              </a:rPr>
              <a:t>Aplicaciones y recursos para la enseñanza y el aprendizaje en las Áreas de Exactas y Natur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14 Grupo"/>
          <p:cNvGrpSpPr/>
          <p:nvPr/>
        </p:nvGrpSpPr>
        <p:grpSpPr>
          <a:xfrm>
            <a:off x="2195640" y="2060640"/>
            <a:ext cx="5157720" cy="3522600"/>
            <a:chOff x="2195640" y="2060640"/>
            <a:chExt cx="5157720" cy="3522600"/>
          </a:xfrm>
        </p:grpSpPr>
        <p:sp>
          <p:nvSpPr>
            <p:cNvPr id="72" name="Shape 116"/>
            <p:cNvSpPr/>
            <p:nvPr/>
          </p:nvSpPr>
          <p:spPr>
            <a:xfrm>
              <a:off x="2934720" y="4985280"/>
              <a:ext cx="432720" cy="385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hape 117"/>
            <p:cNvSpPr/>
            <p:nvPr/>
          </p:nvSpPr>
          <p:spPr>
            <a:xfrm>
              <a:off x="2195640" y="3656160"/>
              <a:ext cx="637920" cy="488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hape 118"/>
            <p:cNvSpPr/>
            <p:nvPr/>
          </p:nvSpPr>
          <p:spPr>
            <a:xfrm>
              <a:off x="2352240" y="2909520"/>
              <a:ext cx="417240" cy="464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hape 119"/>
            <p:cNvSpPr/>
            <p:nvPr/>
          </p:nvSpPr>
          <p:spPr>
            <a:xfrm>
              <a:off x="6920640" y="4395600"/>
              <a:ext cx="377280" cy="5270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hape 120"/>
            <p:cNvSpPr/>
            <p:nvPr/>
          </p:nvSpPr>
          <p:spPr>
            <a:xfrm>
              <a:off x="6071760" y="2485080"/>
              <a:ext cx="464400" cy="441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hape 121"/>
            <p:cNvSpPr/>
            <p:nvPr/>
          </p:nvSpPr>
          <p:spPr>
            <a:xfrm>
              <a:off x="3524400" y="2060640"/>
              <a:ext cx="495000" cy="574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hape 122"/>
            <p:cNvSpPr/>
            <p:nvPr/>
          </p:nvSpPr>
          <p:spPr>
            <a:xfrm>
              <a:off x="6755760" y="3546720"/>
              <a:ext cx="597600" cy="5504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hape 123"/>
            <p:cNvSpPr/>
            <p:nvPr/>
          </p:nvSpPr>
          <p:spPr>
            <a:xfrm>
              <a:off x="2195640" y="4395600"/>
              <a:ext cx="794520" cy="5425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hape 124"/>
            <p:cNvSpPr/>
            <p:nvPr/>
          </p:nvSpPr>
          <p:spPr>
            <a:xfrm>
              <a:off x="3625920" y="5142240"/>
              <a:ext cx="528120" cy="3938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Shape 125"/>
            <p:cNvSpPr/>
            <p:nvPr/>
          </p:nvSpPr>
          <p:spPr>
            <a:xfrm>
              <a:off x="4420800" y="5032800"/>
              <a:ext cx="471600" cy="4716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hape 126"/>
            <p:cNvSpPr/>
            <p:nvPr/>
          </p:nvSpPr>
          <p:spPr>
            <a:xfrm>
              <a:off x="5111640" y="5032800"/>
              <a:ext cx="551880" cy="5504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Shape 127"/>
            <p:cNvSpPr/>
            <p:nvPr/>
          </p:nvSpPr>
          <p:spPr>
            <a:xfrm>
              <a:off x="5803920" y="4820400"/>
              <a:ext cx="676800" cy="68400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hape 128"/>
            <p:cNvSpPr/>
            <p:nvPr/>
          </p:nvSpPr>
          <p:spPr>
            <a:xfrm>
              <a:off x="3783960" y="2909520"/>
              <a:ext cx="2083680" cy="187992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hape 129"/>
            <p:cNvSpPr/>
            <p:nvPr/>
          </p:nvSpPr>
          <p:spPr>
            <a:xfrm>
              <a:off x="2832120" y="2382480"/>
              <a:ext cx="519840" cy="5198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hape 130"/>
            <p:cNvSpPr/>
            <p:nvPr/>
          </p:nvSpPr>
          <p:spPr>
            <a:xfrm>
              <a:off x="4474800" y="2060640"/>
              <a:ext cx="229680" cy="57420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hape 131"/>
            <p:cNvSpPr/>
            <p:nvPr/>
          </p:nvSpPr>
          <p:spPr>
            <a:xfrm>
              <a:off x="5111640" y="2225520"/>
              <a:ext cx="654480" cy="479880"/>
            </a:xfrm>
            <a:prstGeom prst="rect">
              <a:avLst/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hape 132"/>
            <p:cNvSpPr/>
            <p:nvPr/>
          </p:nvSpPr>
          <p:spPr>
            <a:xfrm>
              <a:off x="6496200" y="3019320"/>
              <a:ext cx="582480" cy="433800"/>
            </a:xfrm>
            <a:prstGeom prst="rect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hape 133"/>
            <p:cNvSpPr/>
            <p:nvPr/>
          </p:nvSpPr>
          <p:spPr>
            <a:xfrm>
              <a:off x="4003200" y="3278880"/>
              <a:ext cx="1132920" cy="60588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hape 134"/>
            <p:cNvSpPr/>
            <p:nvPr/>
          </p:nvSpPr>
          <p:spPr>
            <a:xfrm>
              <a:off x="6440760" y="4773240"/>
              <a:ext cx="723960" cy="558720"/>
            </a:xfrm>
            <a:prstGeom prst="rect">
              <a:avLst/>
            </a:pr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hape 141"/>
          <p:cNvSpPr/>
          <p:nvPr/>
        </p:nvSpPr>
        <p:spPr>
          <a:xfrm>
            <a:off x="179280" y="836640"/>
            <a:ext cx="965700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31859c"/>
                </a:solidFill>
                <a:latin typeface="Calibri"/>
              </a:rPr>
              <a:t>Cmap Tool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aplicación para armar mapas concep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hape 142"/>
          <p:cNvSpPr/>
          <p:nvPr/>
        </p:nvSpPr>
        <p:spPr>
          <a:xfrm>
            <a:off x="4535640" y="2192400"/>
            <a:ext cx="435744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¿Para qué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Ordenar, jerarquizar y relacionar ideas para construir un mapa concept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djuntar recursos significativ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rear un mapa conceptual de modo colabora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Hacer una aplicación interactiva para la visualización de da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hape 143"/>
          <p:cNvSpPr/>
          <p:nvPr/>
        </p:nvSpPr>
        <p:spPr>
          <a:xfrm>
            <a:off x="195120" y="1779480"/>
            <a:ext cx="394524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601"/>
              </a:spcBef>
              <a:buClr>
                <a:srgbClr val="000099"/>
              </a:buClr>
              <a:buSzPct val="10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Las on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601"/>
              </a:spcBef>
              <a:buClr>
                <a:srgbClr val="000099"/>
              </a:buClr>
              <a:buSzPct val="10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5"/>
              </a:rPr>
              <a:t>Historia del número 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601"/>
              </a:spcBef>
              <a:buClr>
                <a:srgbClr val="000099"/>
              </a:buClr>
              <a:buSzPct val="10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7"/>
              </a:rPr>
              <a:t>Políg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601"/>
              </a:spcBef>
              <a:buClr>
                <a:srgbClr val="000099"/>
              </a:buClr>
              <a:buSzPct val="10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8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9"/>
              </a:rPr>
              <a:t>Tipos de reacciones quím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601"/>
              </a:spcBef>
              <a:buClr>
                <a:srgbClr val="000099"/>
              </a:buClr>
              <a:buSzPct val="10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1"/>
              </a:rPr>
              <a:t>El cuerpo hum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unos 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5:05:28Z</dcterms:created>
  <dc:creator>mpaladini</dc:creator>
  <dc:description/>
  <dc:language>en-US</dc:language>
  <cp:lastModifiedBy>SarmientoBA</cp:lastModifiedBy>
  <dcterms:modified xsi:type="dcterms:W3CDTF">2012-05-16T18:52:37Z</dcterms:modified>
  <cp:revision>40</cp:revision>
  <dc:subject/>
  <dc:title>Diapositiva 1</dc:title>
</cp:coreProperties>
</file>